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7AB6-DBD5-4109-B759-8EFC1F9C5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8426-DF87-458F-BC0B-91D76D72D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83CB-25A8-477C-9DCE-3772824FD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E5A8-33F8-4BDB-9935-FCAAC2D86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0321-1511-4BD9-BDD2-A0E5F208B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0F75-97BE-41BB-B463-66149A70E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BD17-54EC-48C2-8806-FD5BC8FAC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3F0C-AD17-4FB4-B4E6-6F277DA64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245B-29ED-4470-B87F-2664A90C1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1C84-FBA7-4EA4-BB9F-4545E34E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D28A-AFEC-41B5-AF9D-66DAD3EE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5E9F-B963-486D-A270-D0B1B8AB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64064-1E2A-4E9C-8AFF-82869B2206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6280" y="151920"/>
            <a:ext cx="7158240" cy="17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he CM </a:t>
            </a:r>
            <a:r>
              <a:rPr b="1" lang="en-US" sz="4400" spc="-1" strike="noStrike">
                <a:solidFill>
                  <a:srgbClr val="3333ff"/>
                </a:solidFill>
                <a:latin typeface="Tahoma"/>
              </a:rPr>
              <a:t>Seven-Step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                Review Proces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49320" y="1928520"/>
            <a:ext cx="7966080" cy="43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75000"/>
              </a:lnSpc>
              <a:spcBef>
                <a:spcPts val="675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ff"/>
                </a:solidFill>
                <a:latin typeface="Tahoma"/>
              </a:rPr>
              <a:t>1. Collecting the Dat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5000"/>
              </a:lnSpc>
              <a:spcBef>
                <a:spcPts val="675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ff"/>
                </a:solidFill>
                <a:latin typeface="Tahoma"/>
              </a:rPr>
              <a:t>2. First Read-Through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5000"/>
              </a:lnSpc>
              <a:spcBef>
                <a:spcPts val="675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ff"/>
                </a:solidFill>
                <a:latin typeface="Tahoma"/>
              </a:rPr>
              <a:t>3. Small Like/Mixed-Group Review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5000"/>
              </a:lnSpc>
              <a:spcBef>
                <a:spcPts val="675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ff"/>
                </a:solidFill>
                <a:latin typeface="Tahoma"/>
              </a:rPr>
              <a:t>4. Large Like/Mixed-Group Comparison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5000"/>
              </a:lnSpc>
              <a:spcBef>
                <a:spcPts val="675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ff"/>
                </a:solidFill>
                <a:latin typeface="Tahoma"/>
              </a:rPr>
              <a:t>5. Determine Immediate Revision Poin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5000"/>
              </a:lnSpc>
              <a:spcBef>
                <a:spcPts val="675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ff"/>
                </a:solidFill>
                <a:latin typeface="Tahoma"/>
              </a:rPr>
              <a:t>6. Determine Points Requiring Some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ff"/>
                </a:solidFill>
                <a:latin typeface="Tahoma"/>
              </a:rPr>
              <a:t>       </a:t>
            </a:r>
            <a:r>
              <a:rPr b="1" lang="en-US" sz="2700" spc="-1" strike="noStrike">
                <a:solidFill>
                  <a:srgbClr val="3333ff"/>
                </a:solidFill>
                <a:latin typeface="Tahoma"/>
              </a:rPr>
              <a:t>Research and Plannin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5000"/>
              </a:lnSpc>
              <a:spcBef>
                <a:spcPts val="675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ff"/>
                </a:solidFill>
                <a:latin typeface="Tahoma"/>
              </a:rPr>
              <a:t>7. Plan for Next Review Cycl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rom Mapping the Big Picture: Integrating Curriculum and Assessment K-12;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997, ASCD, Jacobs, HH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" name="Object 4"/>
          <p:cNvGraphicFramePr/>
          <p:nvPr/>
        </p:nvGraphicFramePr>
        <p:xfrm>
          <a:off x="6286680" y="357120"/>
          <a:ext cx="2428560" cy="23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86680" y="357120"/>
                    <a:ext cx="2428560" cy="23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0T20:04:29Z</dcterms:created>
  <dc:creator>Ann Johnson</dc:creator>
  <dc:description/>
  <dc:language>en-US</dc:language>
  <cp:lastModifiedBy>Ann</cp:lastModifiedBy>
  <dcterms:modified xsi:type="dcterms:W3CDTF">2009-11-24T15:28:38Z</dcterms:modified>
  <cp:revision>1</cp:revision>
  <dc:subject/>
  <dc:title>The CM Seven-Step                Review Process:</dc:title>
</cp:coreProperties>
</file>